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00068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263600" y="667800"/>
            <a:ext cx="454968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E5E-DB6E-47D9-A4B6-4F642B63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F8F8-9D3C-45BB-AF1B-E26EBB83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63600" y="668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20F-76E6-4EDC-A4CD-C702AD2F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D94-5AC5-4E3A-994A-C5DDBC69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60D-84E1-45B6-9ED7-D9816282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9A0-F34A-4B3D-A64F-E4C0B329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413-D077-40C5-A6DC-BAA227BC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7BFC-0037-421C-9F48-2CD5A002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6EE-9E7D-4109-871D-22A36758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655-C492-4E87-8DE4-D311A186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295-3CD7-4871-80BA-66B7DFE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160-2695-484D-AD8C-898B0B54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AA54-7F77-4A76-BAD2-A2FF1022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B7D-E8C7-468D-8D57-F9E61E9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67E8-BC70-4D7D-BB89-7CBC024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3659-E91F-449B-9BEC-37ABCE4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EEA8-BF42-489E-9E08-CA031261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221-B042-4144-A4C5-9FC71C9E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3DA-1AF8-4D77-9FCA-743FC1BB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797-6F9A-4194-9E94-9B44975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0D6-9E8E-40FE-BDF8-280D8BB0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969-9F42-4AFB-81D1-4EDA0D5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30B-E0CD-4EBF-83F7-2B546454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C1E-9329-4A45-B984-D6F5E8A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E30-1B80-4560-ADA9-6C59163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595-67FD-4013-9652-0B8F6D60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D817-8858-47ED-9FCF-768CB2F2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5257800"/>
            <a:ext cx="9147240" cy="1063800"/>
            <a:chOff x="-3600" y="525780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5299200"/>
              <a:ext cx="9146880" cy="1022040"/>
              <a:chOff x="-3240" y="529920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124416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546984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5611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557064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551664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5569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546336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54612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5603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55627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551088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55512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546984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5600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52992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551088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555120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525780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602136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BBB9-F58C-434F-B341-ABFD5D2F9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629400" cy="25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Times New Roman"/>
              </a:rPr>
              <a:t>Recovery and the Patient Perspective in an In-Patient Setting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Office for Consumer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a Costa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621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ducationa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rol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ffect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rticipation in Treatment Decisions (Shared Decision-Making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Path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The Five Pathways of  Recove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piri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HOPE: Encouraging Others and Focusing on Strength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d5c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some of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have you done that makes you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gives you h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do that makes you happy or you like to share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OICE: Helping Others to Reconnect With Who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would you like to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want most out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is one of the best choices you hav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EMPOWERMENT: Assisting Others With Taking Action and Finding Thei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f you picture the best thing you’d like to see happen with this, what would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feel about this sit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options have you considered to solve this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cho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ENVIRON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your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people who share your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do you go to feel uplif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encourage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PIRITUALITY: FINDING MEANING AND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your spiritual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can you do to enhance your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share this with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1600200" y="304920"/>
            <a:ext cx="693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Holistic (i.e., biological, psychological, social, and spiritual) view of mental illness that focuses on the person, not just the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is not dependent on one’s ideas about the causes of mental 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447920" y="488880"/>
            <a:ext cx="70102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from severe psychiatric disabilities is ach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can occur even though symptoms may re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600200" y="304920"/>
            <a:ext cx="64008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ndividuals are responsible for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requires a well-organized support system that is responsive to the person’s needs and doesn’t tie the person’s needs only to exis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e Contra Costa Ment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</a:t>
            </a: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ffice for Consumer Empowerment  represents and encourages the inclusion of the consumer perspective in planning, service delivery, policy development, and evaluatio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We educate, empower and motivate consumers to engage in their own individual recovery and become active in the commun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Each individual is viewed as a person first, making the equitable rights and opportunities in community membership a key conce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Maintains a consumer-based focus, noting that diversity factors do not operate in the same way for all consumers of the sa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Warning Signs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7324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y attention to early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elp the patient to notice their warning signs and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ntroduce the patient to WRAP: Wellness Recover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Utilize WRAP in dischar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600200" y="609480"/>
            <a:ext cx="7162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Key Elements of WR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Wellness Toolb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Daily Maintenance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Trigger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Early Warning Sign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When Things Are Breaking Down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Crisis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Post Crisis Plan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3124080" y="1523880"/>
            <a:ext cx="168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 all my year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th psychiatric professional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one thing that’s been most hearte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s when the professional acknow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common human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irs and mine, ours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(Unnamed Consumer Study Particip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Arial"/>
              </a:rPr>
              <a:t>Our Mission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Through education and engagement, we empower consumers to play an active role in transforming the system to recovery-based, consumer-driven, culturally competent services and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79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371600" y="3808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orbidity  in Persons Recovering from  Mental Ill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ontent Placeholder 3" descr="Comorbidity Rates.jpg"/>
          <p:cNvPicPr/>
          <p:nvPr/>
        </p:nvPicPr>
        <p:blipFill>
          <a:blip r:embed="rId1"/>
          <a:stretch/>
        </p:blipFill>
        <p:spPr>
          <a:xfrm>
            <a:off x="1776240" y="1981080"/>
            <a:ext cx="656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remembering who you are and using your strengths to become all that you were meant to be.” – Recovery Innovation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752480" y="1676520"/>
            <a:ext cx="63248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“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The task is not to become normal. The task is to take up your journey of recovery and to become who you are called to be.” – Patricia E. D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a deeply personal, unique process changing one’s attitude, values, feelings, goals, skills, and/or roles. It is a way of living a satisfying, hopeful, and contributing life. Recovery involves the development of new meaning and purpose in one’s life as one grows beyond the catastrophic effects of psychiatric disability.” – Dr. William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52480"/>
            <a:ext cx="766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Confidentiality yet Maintai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ook for Interactions Betwee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with the Patient and Their Psychiatrist Before Switching M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Recovery from Co-Occurr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elf-Reliance vs.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ol vs.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king with Perceptions of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sumer’s Need for Time and Attention From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ion and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3:02:31Z</dcterms:created>
  <dc:creator>alubarov</dc:creator>
  <dc:description/>
  <dc:language>en-US</dc:language>
  <cp:lastModifiedBy>smedlin</cp:lastModifiedBy>
  <dcterms:modified xsi:type="dcterms:W3CDTF">2010-05-26T01:55:22Z</dcterms:modified>
  <cp:revision>95</cp:revision>
  <dc:subject/>
  <dc:title>Recovery Training??</dc:title>
</cp:coreProperties>
</file>